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5.jpeg" ContentType="image/jpeg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1.wmf" ContentType="image/x-wmf"/>
  <Override PartName="/ppt/media/image7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951-E107-42AA-88AE-CA2FC1C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D18-713F-452D-B211-940155F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F69-4CED-4417-BBDF-D2B0F4F5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954-C57A-456E-B819-B97532D6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C341-E88D-4888-A551-5B1D3A83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362-D0B8-43ED-9C02-5FA9EE8F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8329-A48A-4F82-8082-78C086A6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3C6-C9E8-466D-B822-1339633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CF6D-49B6-4F81-B25C-DE48EB33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1BBA-5381-422E-942D-814351A9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264-5873-4C08-B6F3-858B099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0A3-A645-4D03-B749-394C05A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BFDE-C6EE-458A-A3CE-B3FF275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FCA2-3206-4BBC-84B9-6D11AFDB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A0B-6750-4158-96C2-782D294F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4A28-17FB-480F-8416-44A9A27D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AD9-7CC7-49E8-B61F-7E2FDB7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C43-94E3-4206-9C8F-A38BE6EF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C8B-124F-409F-B9E0-9055E0CB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951-4C25-4F63-A191-E30A7811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CAD-BD8F-4878-B985-A292DAC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C60-0CAD-486C-8125-42F3519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6F9-B7C0-4206-AC4D-67EBC51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FF6-1248-41AB-890E-C4AA5E5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EE35-E831-4DE4-9FD4-6E6DB4A53D5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248-0BA1-4863-9BD8-4CE9CDF2C4B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earningplanet.com/act/abcorder.asp" TargetMode="External"/><Relationship Id="rId3" Type="http://schemas.openxmlformats.org/officeDocument/2006/relationships/hyperlink" Target="http://www.bbc.co.uk/schools/wordsandpictures/cvc/crank/game.shtml" TargetMode="External"/><Relationship Id="rId4" Type="http://schemas.openxmlformats.org/officeDocument/2006/relationships/hyperlink" Target="http://www.harcourtschool.com/activity/word_builder/level1/1_10.html" TargetMode="External"/><Relationship Id="rId5" Type="http://schemas.openxmlformats.org/officeDocument/2006/relationships/hyperlink" Target="http://www.starfall.com/n/me/me/load.htm?f" TargetMode="External"/><Relationship Id="rId6" Type="http://schemas.openxmlformats.org/officeDocument/2006/relationships/image" Target="../media/image6.png"/><Relationship Id="rId7" Type="http://schemas.openxmlformats.org/officeDocument/2006/relationships/slide" Target="slide2.xml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bskids.org/lions/games/pounce.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ictgames.com/letterlifter.html" TargetMode="External"/><Relationship Id="rId4" Type="http://schemas.openxmlformats.org/officeDocument/2006/relationships/hyperlink" Target="http://www.starfall.com/n/control-ar/ds_ar/load.htm?f" TargetMode="External"/><Relationship Id="rId5" Type="http://schemas.openxmlformats.org/officeDocument/2006/relationships/hyperlink" Target="http://www.bbc.co.uk/schools/laac/words/dg2.shtml" TargetMode="External"/><Relationship Id="rId6" Type="http://schemas.openxmlformats.org/officeDocument/2006/relationships/hyperlink" Target="http://www.pbskids.org/lions/games/pounce2.html" TargetMode="External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" Target="slide2.xml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ctgames.com/postletter.htm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ctgames.com/newduckshoot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" Target="slide2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- Year 1 –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gital Learning Centr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076360" y="6237000"/>
            <a:ext cx="38149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3933720"/>
            <a:ext cx="5329440" cy="863640"/>
          </a:xfrm>
          <a:custGeom>
            <a:avLst/>
            <a:gdLst>
              <a:gd name="textAreaLeft" fmla="*/ 0 w 5329440"/>
              <a:gd name="textAreaRight" fmla="*/ 5329800 w 53294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anywhere t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68709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Home page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1640" y="2205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1716120" cy="1752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00360" y="2997360"/>
            <a:ext cx="2373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3860640"/>
            <a:ext cx="2373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1908000" y="220500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3068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860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867280" y="4797360"/>
            <a:ext cx="231624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5013360"/>
            <a:ext cx="1727280" cy="1314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7672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6870600" cy="10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131640" y="1773360"/>
            <a:ext cx="5327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phabet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3 letter wor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ound is in the middl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 am I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1411560" cy="134136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2"/>
          </p:cNvPr>
          <p:cNvSpPr/>
          <p:nvPr/>
        </p:nvSpPr>
        <p:spPr>
          <a:xfrm>
            <a:off x="2124000" y="1773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/>
          </p:cNvPr>
          <p:cNvSpPr/>
          <p:nvPr/>
        </p:nvSpPr>
        <p:spPr>
          <a:xfrm>
            <a:off x="2124000" y="3789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4"/>
          </p:cNvPr>
          <p:cNvSpPr/>
          <p:nvPr/>
        </p:nvSpPr>
        <p:spPr>
          <a:xfrm>
            <a:off x="2124000" y="2781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5"/>
          </p:cNvPr>
          <p:cNvSpPr/>
          <p:nvPr/>
        </p:nvSpPr>
        <p:spPr>
          <a:xfrm>
            <a:off x="2124000" y="4797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5508720" y="4797360"/>
            <a:ext cx="1727280" cy="137340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745164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6527880"/>
            <a:ext cx="381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19640" y="1700280"/>
            <a:ext cx="547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’s the first letter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a word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sounds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unce 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ounceicon" descr="Pounc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50864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3"/>
          </p:cNvPr>
          <p:cNvSpPr/>
          <p:nvPr/>
        </p:nvSpPr>
        <p:spPr>
          <a:xfrm>
            <a:off x="2484360" y="184464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4"/>
          </p:cNvPr>
          <p:cNvSpPr/>
          <p:nvPr/>
        </p:nvSpPr>
        <p:spPr>
          <a:xfrm>
            <a:off x="2484360" y="270828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5"/>
          </p:cNvPr>
          <p:cNvSpPr/>
          <p:nvPr/>
        </p:nvSpPr>
        <p:spPr>
          <a:xfrm>
            <a:off x="2484360" y="3645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6"/>
          </p:cNvPr>
          <p:cNvSpPr/>
          <p:nvPr/>
        </p:nvSpPr>
        <p:spPr>
          <a:xfrm>
            <a:off x="2484360" y="465300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924360" y="260280"/>
            <a:ext cx="1152360" cy="113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203640" y="5300640"/>
            <a:ext cx="1368360" cy="1359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39640" y="2997360"/>
            <a:ext cx="1366920" cy="1064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6443640" y="422280"/>
            <a:ext cx="1152720" cy="107460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11" action="ppaction://hlinksldjump"/>
          </p:cNvPr>
          <p:cNvSpPr/>
          <p:nvPr/>
        </p:nvSpPr>
        <p:spPr>
          <a:xfrm>
            <a:off x="723600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6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th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ost" descr="Post a Let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936720" cy="590760"/>
          </a:xfrm>
          <a:prstGeom prst="rect">
            <a:avLst/>
          </a:prstGeom>
          <a:ln w="0">
            <a:noFill/>
          </a:ln>
        </p:spPr>
      </p:pic>
      <p:pic>
        <p:nvPicPr>
          <p:cNvPr id="191" name="duck" descr="Fairground Target Ga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2852640"/>
            <a:ext cx="863640" cy="741600"/>
          </a:xfrm>
          <a:prstGeom prst="rect">
            <a:avLst/>
          </a:prstGeom>
          <a:ln w="0">
            <a:noFill/>
          </a:ln>
        </p:spPr>
      </p:pic>
      <p:pic>
        <p:nvPicPr>
          <p:cNvPr id="192" name="spanner" descr="Save the Whale"/>
          <p:cNvPicPr/>
          <p:nvPr/>
        </p:nvPicPr>
        <p:blipFill>
          <a:blip r:embed="rId5"/>
          <a:stretch/>
        </p:blipFill>
        <p:spPr>
          <a:xfrm>
            <a:off x="1332000" y="379728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7236000" y="5589720"/>
            <a:ext cx="1081080" cy="934920"/>
          </a:xfrm>
          <a:custGeom>
            <a:avLst/>
            <a:gdLst>
              <a:gd name="textAreaLeft" fmla="*/ 60480 w 1081080"/>
              <a:gd name="textAreaRight" fmla="*/ 1020600 w 10810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4976" h="21600">
                <a:moveTo>
                  <a:pt x="0" y="0"/>
                </a:moveTo>
                <a:lnTo>
                  <a:pt x="24976" y="0"/>
                </a:lnTo>
                <a:lnTo>
                  <a:pt x="24976" y="21600"/>
                </a:lnTo>
                <a:lnTo>
                  <a:pt x="0" y="21600"/>
                </a:lnTo>
                <a:close/>
              </a:path>
              <a:path fill="lightenLess" w="24976" h="21600">
                <a:moveTo>
                  <a:pt x="0" y="0"/>
                </a:moveTo>
                <a:lnTo>
                  <a:pt x="24976" y="0"/>
                </a:lnTo>
                <a:lnTo>
                  <a:pt x="23576" y="1400"/>
                </a:lnTo>
                <a:lnTo>
                  <a:pt x="1400" y="1400"/>
                </a:lnTo>
                <a:close/>
              </a:path>
              <a:path fill="darken" w="24976" h="21600">
                <a:moveTo>
                  <a:pt x="24976" y="0"/>
                </a:moveTo>
                <a:lnTo>
                  <a:pt x="24976" y="21600"/>
                </a:lnTo>
                <a:lnTo>
                  <a:pt x="23576" y="20200"/>
                </a:lnTo>
                <a:lnTo>
                  <a:pt x="23576" y="1400"/>
                </a:lnTo>
                <a:close/>
              </a:path>
              <a:path fill="darkenLess" w="24976" h="21600">
                <a:moveTo>
                  <a:pt x="24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6" y="20200"/>
                </a:lnTo>
                <a:close/>
              </a:path>
              <a:path fill="lighten" w="24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6" h="21600">
                <a:moveTo>
                  <a:pt x="12488" y="3837"/>
                </a:moveTo>
                <a:lnTo>
                  <a:pt x="15064" y="6448"/>
                </a:ln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lnTo>
                  <a:pt x="19451" y="10800"/>
                </a:lnTo>
                <a:lnTo>
                  <a:pt x="17797" y="10800"/>
                </a:lnTo>
                <a:lnTo>
                  <a:pt x="17797" y="17989"/>
                </a:lnTo>
                <a:lnTo>
                  <a:pt x="7179" y="17989"/>
                </a:lnTo>
                <a:lnTo>
                  <a:pt x="7179" y="10800"/>
                </a:lnTo>
                <a:lnTo>
                  <a:pt x="5525" y="10800"/>
                </a:lnTo>
                <a:close/>
              </a:path>
              <a:path fill="darkenLess" w="24976" h="21600">
                <a:moveTo>
                  <a:pt x="15064" y="6448"/>
                </a:moveTo>
                <a:lnTo>
                  <a:pt x="15064" y="4707"/>
                </a:lnTo>
                <a:lnTo>
                  <a:pt x="16840" y="4707"/>
                </a:lnTo>
                <a:lnTo>
                  <a:pt x="16840" y="8224"/>
                </a:lnTo>
                <a:close/>
              </a:path>
              <a:path fill="darkenLess" w="24976" h="21600">
                <a:moveTo>
                  <a:pt x="11565" y="14299"/>
                </a:moveTo>
                <a:lnTo>
                  <a:pt x="13410" y="14299"/>
                </a:lnTo>
                <a:lnTo>
                  <a:pt x="13410" y="17989"/>
                </a:lnTo>
                <a:lnTo>
                  <a:pt x="17797" y="17989"/>
                </a:lnTo>
                <a:lnTo>
                  <a:pt x="17797" y="10800"/>
                </a:lnTo>
                <a:lnTo>
                  <a:pt x="7179" y="10800"/>
                </a:lnTo>
                <a:lnTo>
                  <a:pt x="7179" y="17989"/>
                </a:lnTo>
                <a:lnTo>
                  <a:pt x="11565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844640"/>
            <a:ext cx="6408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se and read numbers to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unting in 1s to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now bonds of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d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7973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29080" y="6527880"/>
            <a:ext cx="381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reated by justine@bbps.school.n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0:50:01Z</dcterms:created>
  <dc:creator>Driver</dc:creator>
  <dc:description/>
  <dc:language>en-US</dc:language>
  <cp:lastModifiedBy>lindal</cp:lastModifiedBy>
  <dcterms:modified xsi:type="dcterms:W3CDTF">2007-05-10T14:03:48Z</dcterms:modified>
  <cp:revision>11</cp:revision>
  <dc:subject/>
  <dc:title>- Year 1 –  Digital Learning Centre</dc:title>
</cp:coreProperties>
</file>